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071-8E68-4B8F-A5BD-C1186742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69A-0C02-41FE-B21B-66606471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AD9-D53B-4E0B-BBB6-AE360982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1EC-62E7-4734-B198-7F676A4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7E2-3CE0-4AB1-9553-439DCD5A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2B2-56E8-4E18-9F65-E3CFD6C6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1E8-3F13-47D9-90C9-91600E18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2EA-6D5F-4492-BA1B-C2A26030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2DE-7FAD-4E46-87D1-3A2D8CA0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252-D6B5-4EA5-BB4F-615D7CF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667-D895-4B04-8929-1D3841D3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80F-E8D8-499D-9A9A-E529704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D6D7-3209-472D-AF79-30B252033B2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ilsussidiario.net/img/FOTOLIA/mattonecostruzioneR400.jpg"/>
          <p:cNvPicPr/>
          <p:nvPr/>
        </p:nvPicPr>
        <p:blipFill>
          <a:blip r:embed="rId1"/>
          <a:stretch/>
        </p:blipFill>
        <p:spPr>
          <a:xfrm>
            <a:off x="0" y="0"/>
            <a:ext cx="9966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0" y="3357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00"/>
                </a:solidFill>
                <a:latin typeface="바탕"/>
              </a:rPr>
              <a:t>Quale sarà </a:t>
            </a:r>
            <a:br>
              <a:rPr sz="6000"/>
            </a:br>
            <a:r>
              <a:rPr b="1" lang="it-IT" sz="6000" spc="-1" strike="noStrike">
                <a:solidFill>
                  <a:srgbClr val="ffff00"/>
                </a:solidFill>
                <a:latin typeface="바탕"/>
              </a:rPr>
              <a:t>il mio posto nella casa di Di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95280" y="189000"/>
            <a:ext cx="82915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cc"/>
                </a:solidFill>
                <a:latin typeface="바탕"/>
              </a:rPr>
              <a:t>Lo so, </a:t>
            </a:r>
            <a:br>
              <a:rPr sz="4400"/>
            </a:br>
            <a:r>
              <a:rPr b="1" lang="it-IT" sz="4400" spc="-1" strike="noStrike">
                <a:solidFill>
                  <a:srgbClr val="0000cc"/>
                </a:solidFill>
                <a:latin typeface="바탕"/>
              </a:rPr>
              <a:t>non mi farai fare brutta figura,</a:t>
            </a:r>
            <a:br>
              <a:rPr sz="4400"/>
            </a:br>
            <a:r>
              <a:rPr b="1" lang="it-IT" sz="4400" spc="-1" strike="noStrike">
                <a:solidFill>
                  <a:srgbClr val="0000cc"/>
                </a:solidFill>
                <a:latin typeface="바탕"/>
              </a:rPr>
              <a:t>non mi farai sentire creatura che non serve a niente,</a:t>
            </a:r>
            <a:br>
              <a:rPr sz="4400"/>
            </a:br>
            <a:r>
              <a:rPr b="1" lang="it-IT" sz="4400" spc="-1" strike="noStrike">
                <a:solidFill>
                  <a:srgbClr val="0000cc"/>
                </a:solidFill>
                <a:latin typeface="바탕"/>
              </a:rPr>
              <a:t>perché tu sei fatto così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561600"/>
            <a:ext cx="821844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quando ti serve una pietra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per la tua costruzione,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prendi il primo ciottolo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che incontri,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lo guardi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con infinita tenerezza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e lo rendi quella pietra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di cui hai bisogno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57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ora splendente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come un diamante,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ora opaca e ferma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come una roccia,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ma sempre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adatta al tuo scop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encrypted-tbn2.gstatic.com/images?q=tbn:ANd9GcQ6UxVlQ26vMgf03X_t6zgdWuC_WlXb63PZgBOGzfwH2wcIsJMd8w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64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0" y="0"/>
            <a:ext cx="450072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바탕"/>
              </a:rPr>
              <a:t>Cosa farai di questo ciottolo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바탕"/>
              </a:rPr>
              <a:t>che sono io, di questo piccolo sasso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바탕"/>
              </a:rPr>
              <a:t>che tu hai creato e che lavori ogni giorno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바탕"/>
              </a:rPr>
              <a:t>con la potenza della tua sapienza,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바탕"/>
              </a:rPr>
              <a:t>con la forza invincibile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바탕"/>
              </a:rPr>
              <a:t>del tuo amore trasfigura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www.pietrambiente.it/sito/data/files/Ciottoli-di-Bianco-Carrara-18426_image.jpg"/>
          <p:cNvPicPr/>
          <p:nvPr/>
        </p:nvPicPr>
        <p:blipFill>
          <a:blip r:embed="rId2"/>
          <a:stretch/>
        </p:blipFill>
        <p:spPr>
          <a:xfrm>
            <a:off x="4356000" y="3284640"/>
            <a:ext cx="3983040" cy="30970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87504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Tu fai cose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inaspettate, gloriose.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Getti là le cianfrusaglie e ti metti a cesellare la mia vi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28972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Se mi metti sotto un pavimento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che nessuno vede,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ma che sostiene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lo splendore dello zaffiro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o in cima ad una cupola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che tutti guardano 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e ne restano abbagliati,</a:t>
            </a:r>
            <a:br>
              <a:rPr sz="4400"/>
            </a:br>
            <a:r>
              <a:rPr b="1" lang="it-IT" sz="4400" spc="-1" strike="noStrike">
                <a:solidFill>
                  <a:srgbClr val="ffff00"/>
                </a:solidFill>
                <a:latin typeface="바탕"/>
              </a:rPr>
              <a:t>ha poca importanz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24000" y="40464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cc"/>
                </a:solidFill>
                <a:latin typeface="바탕"/>
              </a:rPr>
              <a:t>Importante è trovarmi </a:t>
            </a:r>
            <a:br>
              <a:rPr sz="4400"/>
            </a:br>
            <a:r>
              <a:rPr b="1" lang="it-IT" sz="4400" spc="-1" strike="noStrike">
                <a:solidFill>
                  <a:srgbClr val="0000cc"/>
                </a:solidFill>
                <a:latin typeface="바탕"/>
              </a:rPr>
              <a:t>ogni giorno là dove </a:t>
            </a:r>
            <a:br>
              <a:rPr sz="4400"/>
            </a:br>
            <a:r>
              <a:rPr b="1" lang="it-IT" sz="4400" spc="-1" strike="noStrike">
                <a:solidFill>
                  <a:srgbClr val="0000cc"/>
                </a:solidFill>
                <a:latin typeface="바탕"/>
              </a:rPr>
              <a:t>tu mi metti,</a:t>
            </a:r>
            <a:br>
              <a:rPr sz="4400"/>
            </a:br>
            <a:r>
              <a:rPr b="1" lang="it-IT" sz="4400" spc="-1" strike="noStrike">
                <a:solidFill>
                  <a:srgbClr val="0000cc"/>
                </a:solidFill>
                <a:latin typeface="바탕"/>
              </a:rPr>
              <a:t>senza ritard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s://encrypted-tbn2.gstatic.com/images?q=tbn:ANd9GcQehw2MVcHSsIipwpRylUgiZ12jehT9hqolhDcfuNaKRAfagrn-"/>
          <p:cNvPicPr/>
          <p:nvPr/>
        </p:nvPicPr>
        <p:blipFill>
          <a:blip r:embed="rId1"/>
          <a:stretch/>
        </p:blipFill>
        <p:spPr>
          <a:xfrm>
            <a:off x="4238640" y="1952640"/>
            <a:ext cx="4905360" cy="49053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-684360" y="1341360"/>
            <a:ext cx="712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바탕"/>
              </a:rPr>
              <a:t>Ed io, per quanto pietra, 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바탕"/>
              </a:rPr>
              <a:t>sento di avere una voce: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바탕"/>
              </a:rPr>
              <a:t>voglio gridarti, o Dio,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바탕"/>
              </a:rPr>
              <a:t>la mia felicità di trovarmi 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바탕"/>
              </a:rPr>
              <a:t>malleabile nelle tue mani,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바탕"/>
              </a:rPr>
              <a:t>per renderti servizio,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바탕"/>
              </a:rPr>
              <a:t>per essere 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바탕"/>
              </a:rPr>
              <a:t>tempio della tua gloria.</a:t>
            </a:r>
            <a:br>
              <a:rPr sz="2800"/>
            </a:br>
            <a:br>
              <a:rPr sz="2800"/>
            </a:b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ard. A. Ballest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Users\Sandra\Pictures\Senza nome-scandito-01 (2).jpg"/>
          <p:cNvPicPr/>
          <p:nvPr/>
        </p:nvPicPr>
        <p:blipFill>
          <a:blip r:embed="rId1"/>
          <a:stretch/>
        </p:blipFill>
        <p:spPr>
          <a:xfrm>
            <a:off x="5505480" y="689040"/>
            <a:ext cx="3327480" cy="33894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3:40:27Z</dcterms:created>
  <dc:creator>Carmela</dc:creator>
  <dc:description/>
  <dc:language>en-US</dc:language>
  <cp:lastModifiedBy>Agire</cp:lastModifiedBy>
  <dcterms:modified xsi:type="dcterms:W3CDTF">2016-11-30T11:12:27Z</dcterms:modified>
  <cp:revision>15</cp:revision>
  <dc:subject/>
  <dc:title>Quale sarà il mio posto nella casa di Dio?</dc:title>
</cp:coreProperties>
</file>